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B24C-AD86-4FE1-834D-B9C862F66AB8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Based on the evidence and expert opinion, the CPG DG propo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he following follow-up schedule as shown in the following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3FE5-6613-4598-AFAF-1E02F6E1C0D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26D-5B82-4453-9FF6-953BC268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F4A-715D-4A38-85A1-C9B17A3C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07C-458C-4695-8C80-76788547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67A-A759-41C4-8F9F-971BF828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0B0-0B26-4B53-B742-273FE9CE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A40-7800-4E2F-BDFB-289E67CD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1F0-2F63-49F6-B811-6FE5D418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3CE-15DF-4022-8FB7-9382828B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09B-01DD-4AF2-93D3-58BDB1E1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F65-030A-451B-B34A-8A214DD1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BF1-527E-4240-A77E-A201D4AA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629-3895-45F6-8216-2F9186B8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2C5E-990B-4E79-BC0F-1B48A6DA7298}" type="datetime">
              <a:rPr b="0" lang="en-MY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9292-F2E5-4157-9F6C-A0A56CBF4C5D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51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alibri Light"/>
              </a:rPr>
              <a:t>LECTURE 6 : FOLLOW UP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3160" y="210960"/>
            <a:ext cx="11583720" cy="28879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609560" y="336600"/>
            <a:ext cx="9144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TRAINING OF CORE TRAINERS FOR  CPG MANAGEMENT OF RETINOPATHY PREMATURITY (SECOND E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8478720" y="2475000"/>
            <a:ext cx="3749760" cy="4054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230640" y="4494240"/>
            <a:ext cx="611640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Dr.Sakinah Su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Family Medicine Specia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Klinik Kesihatan Nila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d0d0d"/>
                </a:solidFill>
                <a:latin typeface="Calibri Light"/>
                <a:ea typeface="Times New Roman"/>
              </a:rPr>
              <a:t>Negeri Semb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9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F657-4882-4D5B-A797-B0AEEEB11DE0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31920" y="22860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908000" y="1757520"/>
            <a:ext cx="906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Follow-up of infants with or without ROP should be done accordingly with complete eye examination base on staging and treatment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5094-B2A9-4C9D-92B3-35D71A260259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736720" y="2503440"/>
            <a:ext cx="9455400" cy="155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7650000" y="1712880"/>
            <a:ext cx="3756240" cy="405468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691E-1730-48DB-A8B0-0542690390EF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46280" y="2004840"/>
            <a:ext cx="921240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Calibri Light"/>
              </a:rPr>
              <a:t>To learn how to follow-up infants with 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A94B-48FC-4B3C-8D72-695D7E6D9568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B93A-7E57-4488-B158-208F4017AF75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76160" y="1611000"/>
            <a:ext cx="9212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n RCT, which is part of ETROP, examined the prevalence of myopia and high myopia at 6- and 9-month post-term and, 2- and 3-year </a:t>
            </a:r>
            <a:r>
              <a:rPr b="0" lang="en-MY" sz="2400" spc="-1" strike="noStrike">
                <a:solidFill>
                  <a:srgbClr val="000000"/>
                </a:solidFill>
                <a:latin typeface="Calibri Light"/>
              </a:rPr>
              <a:t>postnatal findings. It showed 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 Light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evalence of myopia at 6- and 9-month post-term were significantly higher in conventional management eyes than in early treated eyes; however, there was no difference in the prevalence </a:t>
            </a:r>
            <a:r>
              <a:rPr b="0" lang="en-MY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of high my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Prevalence of myopia and high myopia were similar at 2- and </a:t>
            </a:r>
            <a:r>
              <a:rPr b="0" lang="en-MY" sz="2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3-year postnatal in both treatment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in both treatment groups, there was an increase in prevalence of myopia over time, occurring mostly between 6- and 9-month post-term while in contrast, prevalence of high myopia increased at each successive age up to three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6934320" y="59436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 Light"/>
                <a:ea typeface="Calibri"/>
              </a:rPr>
              <a:t>62.Quinn GE, Dobson V, Davitt BV, et al: 2008;115(6):1058-64.e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712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REFRACTIVE OUTCOME OF PREMATURE INFANTS WITH OR WITHOUT RO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322880" y="5672160"/>
            <a:ext cx="76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  <a:ea typeface="Calibri Light"/>
              </a:rPr>
              <a:t>63. Hsieh CJ, Liu JW, Huang JS, et al.. 2012;28(4):204-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F35B-701F-432E-A234-70EFDF6DFE54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79160" y="1711080"/>
            <a:ext cx="9580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A prospective cohort study evaluated the extent to which refractive morbidity at six and 24 months of PMA is correlated to preterm birth or ROP compared with full-term infants :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 Light"/>
              </a:rPr>
              <a:t>6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Calibri Light"/>
              </a:rPr>
              <a:t>Those with laser-treated severe </a:t>
            </a: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ROP had the highest prevalence of refractive errors during the first two years of lif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The refractive errors increased significantly across the ages and these findings indicated that monitoring on it was required for at least two year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44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SE in eyes with regressed ROP and those without ROP was significantly lower than eyes of full-term infants at the first refraction (six months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6844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REFRACTIVE ERROR CHANGES 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IN PRETERM INFANTS WITH AND WITHOUT ROP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7F9-E5E2-4904-ADD4-0CDE205DD501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690560" y="1711440"/>
            <a:ext cx="9796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In a retrospective observational study on changes in refractive errors in preterm infants with and without ROP in the first six years of life 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 Light"/>
                <a:ea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significant increase in myopia values was noted only between first and third-year examinations in the severe ROP (treated)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no significant trend was observed in the mild/no ROP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no significant trend in astigmatism and anisometropia seen in both mild/no and severe ROP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 Light"/>
                <a:ea typeface="Arial"/>
              </a:rPr>
              <a:t>64. Kaya M, Berk AT, Yaman. 2018;38(4):1681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6844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RISK FOR ROP-RELATED COM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FF81-2664-432B-8CE4-753BD946EAA6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1690560" y="1711440"/>
            <a:ext cx="9796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A recent retrospective study in Taiwan showed that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 Light"/>
                <a:ea typeface="Arial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approximately one-third of ROP eyes with spontaneous regression or anti-VEGF injection exhibited persistent avascular retina when the children reached school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patients with regressed ROP have long-term risk for ROP-related com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  <a:ea typeface="Arial"/>
              </a:rPr>
              <a:t>Parental counselling with regard to this complication is essential</a:t>
            </a: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 Light"/>
                <a:ea typeface="Arial"/>
              </a:rPr>
              <a:t>65.Ling XC, Kang EY, Huang JL, et al.</a:t>
            </a:r>
            <a:r>
              <a:rPr b="0" lang="en-US" sz="1400" spc="-1" strike="noStrike">
                <a:solidFill>
                  <a:srgbClr val="000000"/>
                </a:solidFill>
                <a:latin typeface="Calibri Light"/>
                <a:ea typeface="Arial"/>
              </a:rPr>
              <a:t>.2023;3(3):100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FOLLOW UP SCHEDULE FOR RO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2076-BDDF-4673-92CC-C14AFC782C99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528920"/>
          <a:ext cx="9574200" cy="4954320"/>
        </p:xfrm>
        <a:graphic>
          <a:graphicData uri="http://schemas.openxmlformats.org/drawingml/2006/table">
            <a:tbl>
              <a:tblPr/>
              <a:tblGrid>
                <a:gridCol w="4210200"/>
                <a:gridCol w="5364000"/>
              </a:tblGrid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OUTCOMES OF 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FOLLOW-UP AND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with no 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ete eye examination* at 6 months of a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normal - VA at 4 years of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abnormal - consult ophthalmolog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with spontaneous regression and fully vasculari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ete eye examination* at 6 months of a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normal - VA at 4 years of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abnormal - consult ophthalm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34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treated with laser photocoagulation or anti-VEGF and fully vasculari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plete eye examination* at 6 months of ag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normal - yearly examination until 5 years of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f abnormal - consult ophthalmolog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for laser treated infants, baseline visual field assessment may be performed based on the discretion of the treating ophthalmolog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ffffff"/>
                          </a:solidFill>
                          <a:latin typeface="Calibri Light"/>
                        </a:rPr>
                        <a:t>Infants with P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Regular follow-up at the discretion of the ophthalmologist with the possibility of fundus fluoresceine angiography (FFA) and laser photocoag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2" name="TextBox 9"/>
          <p:cNvSpPr/>
          <p:nvPr/>
        </p:nvSpPr>
        <p:spPr>
          <a:xfrm>
            <a:off x="160200" y="6451560"/>
            <a:ext cx="102711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*consists of VA, alignment, nystagmus, cycloplegic refraction and dilated fund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9982080" y="64292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Page 24 of C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FC57-B461-4550-B088-4C88A1F194F3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4" descr=""/>
          <p:cNvPicPr/>
          <p:nvPr/>
        </p:nvPicPr>
        <p:blipFill>
          <a:blip r:embed="rId1"/>
          <a:stretch/>
        </p:blipFill>
        <p:spPr>
          <a:xfrm>
            <a:off x="693720" y="284040"/>
            <a:ext cx="1088856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73160" y="298440"/>
            <a:ext cx="11585520" cy="1125720"/>
          </a:xfrm>
          <a:prstGeom prst="rect">
            <a:avLst/>
          </a:prstGeom>
          <a:gradFill rotWithShape="0">
            <a:gsLst>
              <a:gs pos="0">
                <a:srgbClr val="9299cf"/>
              </a:gs>
              <a:gs pos="100000">
                <a:srgbClr val="e0e1ef"/>
              </a:gs>
            </a:gsLst>
            <a:lin ang="0"/>
          </a:gra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46400" y="282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000000"/>
                </a:solidFill>
                <a:latin typeface="Calibri Light"/>
              </a:rPr>
              <a:t>RECOMMENDATION FOR FOLLOW UP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14240" y="2568600"/>
            <a:ext cx="10639440" cy="283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331920" y="111240"/>
            <a:ext cx="201744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linical Practice Guidelines Management of Retinopathy of Prematurity (Second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0FD4-4D42-44C7-A4BE-DCDE43FA070F}" type="slidenum">
              <a:rPr b="0" lang="en-MY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30T01:09:00Z</dcterms:created>
  <dc:creator>Arifah Nur Yahya</dc:creator>
  <dc:description/>
  <dc:language>en-US</dc:language>
  <cp:lastModifiedBy>Karen Sharmini</cp:lastModifiedBy>
  <dcterms:modified xsi:type="dcterms:W3CDTF">2024-11-26T01:58:53Z</dcterms:modified>
  <cp:revision>32</cp:revision>
  <dc:subject/>
  <dc:title>TRAINING MODULE CPG MANAGEMENT OF ROP 2nd EDITION : FOLLOW UP AND REHABILI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C9D3D3B97FF413095C89F22C25EB1B3_13</vt:lpwstr>
  </property>
  <property fmtid="{D5CDD505-2E9C-101B-9397-08002B2CF9AE}" pid="3" name="KSOProductBuildVer">
    <vt:lpwstr>1033-12.2.0.17545</vt:lpwstr>
  </property>
</Properties>
</file>